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23D7-30EF-4F8D-8627-8DFFD6177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84C3-A557-4FA4-98C3-6EE7586C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384D-A997-4940-915A-63B4ED84B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F84F-461B-4FCA-807A-850AB29FB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46A1-D81A-4806-BBCB-C6B285C1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A5D8-C5EC-40DC-A567-FB01A11F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A582-209F-4A3F-AEB9-AA20B54D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548F-92DE-4D6A-8480-37E920B8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6C1F-DB03-43AD-9317-DF0C4CA7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0A46-A7F2-47F6-93CA-315C527C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9116-D374-479D-8EBC-719045C1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AFF4-6E4D-445E-9AD5-F01E28C3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459D-DBEC-4BC8-8DFE-4E7DDEB7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CD55-4E1E-46E6-8156-C1438AB2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AAF1-6C4D-487F-A9A8-9A545656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35E7-1925-485D-83C0-3A492816B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5BBE-8FFF-466F-86A3-99E7F331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2175-55E3-453D-B7ED-AABCEFAF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BCD7-5878-495F-B796-5D9602FD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3470-D031-4470-A1D9-1128D9C8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851B-86DC-4E29-9433-3C37B93F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2067-E324-4722-A330-2BED3313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0DF6-2F22-4533-A790-A35E898F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585F-EFE8-4C11-8A7D-66E7D87B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C906-D9EA-4439-9067-937EC50FBB5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05A1-5FEA-48EC-9C9E-371007AFE58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256500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Electronic employee monitoring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755640" y="2349360"/>
            <a:ext cx="784872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Advantages of video survillanc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aving video surveillance is the fact that they can act as deterrents for bad behavior by the employe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camera can also act as motivators that encourage workers to perform to their best of abiliti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Disadvantages of video surveillance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employees do not want to under perform, so they are contanstly worrying about their performanc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system can lead to higher stress levels for the employe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Social &amp; Ethical issues of Electronic employee monitoring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7240" y="1847880"/>
            <a:ext cx="7909200" cy="41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hazard of high-tech crime and difficulty of keeping data secure: Even though you trust the institution and monitoring the performance and data of employee, you can`t be sure that the datas will remain secure in the systems. Computer crime is at all time high,and law enforcement officials are having difficult time to keep it under contro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risks of failure of computer system: compter software is dificult to write,because it is incredibly complex. As result ,no computer system is completely fail saf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Reference articles relating to electronic monitoring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lobalization and the Technolog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ceret New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ten Best laptop bag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Types of monitoring systems in the workplac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1280" y="1846440"/>
            <a:ext cx="7921440" cy="30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mputer monitor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ll monitror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ideo surveillance(video camer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Library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820728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ibraries may wish to adopt an electronic policy to limits the library`s liability for employee misconduct, such as using it`s E-mails to sexually harass another employe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ibrary may also wish to monitor their employee`s electronic communications to      verify that it`s electronic systems are being used for library Purposes and Are no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eing compromised by inapproprite personal use or by being made subject to    virus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Advantages of computer monitoring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y tracking the time spent on the computer,an employers will be able to evaluate an employee`s performance better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ith a clearer understanding of what employees needs to improve on,training,coaching can be given to the employee, which benefits them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f the employee takes longer time on keystrokes,the monitoring system will catch thi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Disadvantages of computer monitroing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employee might not understand computer program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ck of trust felt by the employe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loyee can become stessed by the fact that they`re constantly being monitroed, which will lead to decease in good customer servic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Call monitoring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136000" cy="36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ll monitoring is “Listening to live phone calls and recoeding one`s observaions”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very employer keeps tabs on it`s employee. But increasingly ,companies want to know the details of how employees are spending their precious time when on the phone and onlin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mployer also want to know the emplyees communications &amp; activities on the job ,including their phone calls,  E-mails, Internet connections, computer fil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Advantages of call monitoring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1280" y="1931760"/>
            <a:ext cx="7921440" cy="33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will resulting in high quality establishm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employees will know that they can be monitored at any time, so they will always try their bes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will, in turn, make the customers much happie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op management will have an easier time seeing how their company is perform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Disadvantages of call monitoring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ress that will be placed on the employees because of the knowledge that they could be watched at anytim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stress will affect the motivation of the workers, leading to decease in productivity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feeling of mistrust will also resulting in decrease motivation    &amp; productivity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Video surveillanc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ideo surveillance is the viewing of employees through the use of various of video cameras place through the facility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video cameras can either be placed in plain sight of the employees, or secretly hidde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7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7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7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8:13:05Z</dcterms:created>
  <dc:creator>微软用户</dc:creator>
  <dc:description/>
  <dc:language>en-US</dc:language>
  <cp:lastModifiedBy>jacoba_jpi</cp:lastModifiedBy>
  <dcterms:modified xsi:type="dcterms:W3CDTF">2008-03-04T09:37:59Z</dcterms:modified>
  <cp:revision>47</cp:revision>
  <dc:subject/>
  <dc:title>幻灯片 1</dc:title>
</cp:coreProperties>
</file>